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jep3.wav" ContentType="audio/x-wav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33.png" ContentType="image/png"/>
  <Override PartName="/ppt/media/image9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68E9-37EC-486A-ABE0-16111F32F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942C-936A-4802-831C-9D07F12D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AE48-8FCD-4550-9AE2-8086A0781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F413-CB0B-428E-9A0B-69B518A37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A5B0-416E-4E85-AE9A-CB086776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23D1-1BEE-4C74-8CB7-5C14545A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E58D-EEA2-402F-9A91-07D54AFE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3122-196F-4FA7-BFD9-2E18FA91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448E-B365-4803-A4A2-E3905C9B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F613-2387-44E9-B789-B6CF7550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49F1-3FF1-4EF3-BC9F-A7567D64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A434-E745-4E35-B28A-614C5DA1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B3B8-9C08-40E8-8280-BFB86DE64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9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14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20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25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30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5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0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15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21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26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31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6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1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16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22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27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32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7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12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image" Target="../media/image2.png"/><Relationship Id="rId62" Type="http://schemas.openxmlformats.org/officeDocument/2006/relationships/image" Target="../media/image1.png"/><Relationship Id="rId63" Type="http://schemas.openxmlformats.org/officeDocument/2006/relationships/slide" Target="slide23.xml"/><Relationship Id="rId64" Type="http://schemas.openxmlformats.org/officeDocument/2006/relationships/image" Target="../media/image2.png"/><Relationship Id="rId65" Type="http://schemas.openxmlformats.org/officeDocument/2006/relationships/image" Target="../media/image1.png"/><Relationship Id="rId66" Type="http://schemas.openxmlformats.org/officeDocument/2006/relationships/image" Target="../media/image2.png"/><Relationship Id="rId67" Type="http://schemas.openxmlformats.org/officeDocument/2006/relationships/image" Target="../media/image1.png"/><Relationship Id="rId68" Type="http://schemas.openxmlformats.org/officeDocument/2006/relationships/slide" Target="slide33.xml"/><Relationship Id="rId69" Type="http://schemas.openxmlformats.org/officeDocument/2006/relationships/image" Target="../media/image2.png"/><Relationship Id="rId70" Type="http://schemas.openxmlformats.org/officeDocument/2006/relationships/image" Target="../media/image1.png"/><Relationship Id="rId71" Type="http://schemas.openxmlformats.org/officeDocument/2006/relationships/slide" Target="slide8.xml"/><Relationship Id="rId72" Type="http://schemas.openxmlformats.org/officeDocument/2006/relationships/image" Target="../media/image2.png"/><Relationship Id="rId73" Type="http://schemas.openxmlformats.org/officeDocument/2006/relationships/image" Target="../media/image1.png"/><Relationship Id="rId74" Type="http://schemas.openxmlformats.org/officeDocument/2006/relationships/slide" Target="slide13.xml"/><Relationship Id="rId75" Type="http://schemas.openxmlformats.org/officeDocument/2006/relationships/image" Target="../media/image2.png"/><Relationship Id="rId76" Type="http://schemas.openxmlformats.org/officeDocument/2006/relationships/image" Target="../media/image1.png"/><Relationship Id="rId77" Type="http://schemas.openxmlformats.org/officeDocument/2006/relationships/slide" Target="slide19.xml"/><Relationship Id="rId78" Type="http://schemas.openxmlformats.org/officeDocument/2006/relationships/image" Target="../media/image2.png"/><Relationship Id="rId79" Type="http://schemas.openxmlformats.org/officeDocument/2006/relationships/image" Target="../media/image1.png"/><Relationship Id="rId80" Type="http://schemas.openxmlformats.org/officeDocument/2006/relationships/slide" Target="slide24.xml"/><Relationship Id="rId81" Type="http://schemas.openxmlformats.org/officeDocument/2006/relationships/image" Target="../media/image2.png"/><Relationship Id="rId82" Type="http://schemas.openxmlformats.org/officeDocument/2006/relationships/image" Target="../media/image1.png"/><Relationship Id="rId83" Type="http://schemas.openxmlformats.org/officeDocument/2006/relationships/slide" Target="slide29.xml"/><Relationship Id="rId84" Type="http://schemas.openxmlformats.org/officeDocument/2006/relationships/image" Target="../media/image2.png"/><Relationship Id="rId85" Type="http://schemas.openxmlformats.org/officeDocument/2006/relationships/image" Target="../media/image1.png"/><Relationship Id="rId86" Type="http://schemas.openxmlformats.org/officeDocument/2006/relationships/slide" Target="slide34.xml"/><Relationship Id="rId87" Type="http://schemas.openxmlformats.org/officeDocument/2006/relationships/image" Target="../media/image2.png"/><Relationship Id="rId88" Type="http://schemas.openxmlformats.org/officeDocument/2006/relationships/image" Target="../media/image1.png"/><Relationship Id="rId89" Type="http://schemas.openxmlformats.org/officeDocument/2006/relationships/image" Target="../media/image1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3.jpeg"/><Relationship Id="rId95" Type="http://schemas.openxmlformats.org/officeDocument/2006/relationships/image" Target="../media/image4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5.png"/><Relationship Id="rId98" Type="http://schemas.openxmlformats.org/officeDocument/2006/relationships/image" Target="../media/image6.png"/><Relationship Id="rId99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Jeopardy.wav" TargetMode="External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Jeopardy.wav" TargetMode="External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package" Target="../embeddings/oleObject1.pptx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2004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Which species appears to have been most successful in surviving changes over tim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rcRect l="10000" t="22227" r="25004" b="37505"/>
          <a:stretch/>
        </p:blipFill>
        <p:spPr>
          <a:xfrm>
            <a:off x="914400" y="0"/>
            <a:ext cx="7315200" cy="32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7339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explains what happened to species A. </a:t>
            </a:r>
            <a:r>
              <a:rPr b="0" lang="en-US" sz="54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rcRect l="11002" t="29170" r="29000" b="30555"/>
          <a:stretch/>
        </p:blipFill>
        <p:spPr>
          <a:xfrm>
            <a:off x="0" y="0"/>
            <a:ext cx="9144000" cy="35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51814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concept illustrated he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rcRect l="44003" t="26007" r="11999" b="18060"/>
          <a:stretch/>
        </p:blipFill>
        <p:spPr>
          <a:xfrm>
            <a:off x="1066680" y="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05320" cy="35053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0" y="312408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Darwin used this sequence of 5 to account for varying Finch species on the Galapago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-228600" y="41911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Letter Z represents these structur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rcRect l="20001" t="22227" r="42000" b="25003"/>
          <a:stretch/>
        </p:blipFill>
        <p:spPr>
          <a:xfrm>
            <a:off x="2057400" y="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66880" y="990720"/>
            <a:ext cx="6477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chromosome pair shows chromosomes from the 2 most closely related individual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rcRect l="14002" t="11110" r="75006" b="19445"/>
          <a:stretch/>
        </p:blipFill>
        <p:spPr>
          <a:xfrm>
            <a:off x="0" y="0"/>
            <a:ext cx="150804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601640" y="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20720" y="205740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20720" y="396252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1640" y="594360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581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se 2 species are the most closely relate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56002" t="22227" r="14002" b="38890"/>
          <a:stretch/>
        </p:blipFill>
        <p:spPr>
          <a:xfrm>
            <a:off x="6400800" y="106668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rcRect l="17001" t="43057" r="53002" b="41666"/>
          <a:stretch/>
        </p:blipFill>
        <p:spPr>
          <a:xfrm>
            <a:off x="3352680" y="2209680"/>
            <a:ext cx="2286000" cy="8384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rcRect l="17001" t="22227" r="53002" b="48615"/>
          <a:stretch/>
        </p:blipFill>
        <p:spPr>
          <a:xfrm>
            <a:off x="3352680" y="1066680"/>
            <a:ext cx="2286000" cy="16002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rcRect l="56002" t="22227" r="14002" b="40281"/>
          <a:stretch/>
        </p:blipFill>
        <p:spPr>
          <a:xfrm>
            <a:off x="304920" y="1066680"/>
            <a:ext cx="2286000" cy="20574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rcRect l="17001" t="20836" r="53002" b="69451"/>
          <a:stretch/>
        </p:blipFill>
        <p:spPr>
          <a:xfrm>
            <a:off x="304920" y="2209680"/>
            <a:ext cx="2286000" cy="533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0" y="30492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pecies 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71800" y="30492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pecies 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72200" y="30492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pecies 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512136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is the complimentary sequence of DN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rcRect l="14214" t="8334" r="38216" b="18060"/>
          <a:stretch/>
        </p:blipFill>
        <p:spPr>
          <a:xfrm>
            <a:off x="1371600" y="0"/>
            <a:ext cx="655308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512136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Which amino acids will bond to CUU &amp; CAC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1001" t="8334" r="14002" b="23612"/>
          <a:stretch/>
        </p:blipFill>
        <p:spPr>
          <a:xfrm>
            <a:off x="0" y="0"/>
            <a:ext cx="9144000" cy="52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rcRect l="47003" t="29170" r="17998" b="18060"/>
          <a:stretch/>
        </p:blipFill>
        <p:spPr>
          <a:xfrm>
            <a:off x="2403360" y="0"/>
            <a:ext cx="4422960" cy="4800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600200" y="45720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identity of the cell shown he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36576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process that caused this change is referred to as thi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rcRect l="8999" t="29170" r="55000" b="18060"/>
          <a:stretch/>
        </p:blipFill>
        <p:spPr>
          <a:xfrm>
            <a:off x="5181480" y="0"/>
            <a:ext cx="2743200" cy="28954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rcRect l="47003" t="29170" r="18999" b="18060"/>
          <a:stretch/>
        </p:blipFill>
        <p:spPr>
          <a:xfrm>
            <a:off x="1066680" y="0"/>
            <a:ext cx="2590920" cy="28954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278000" y="2895480"/>
            <a:ext cx="204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Befo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50000" y="2971800"/>
            <a:ext cx="16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f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0" y="0"/>
          <a:ext cx="9144000" cy="5791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16002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is why starch must be digested into glucose by the bod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direction of movement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f the following substances: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5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, glucose, starch &amp; iodin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dialysis_tubing_MC" descr=""/>
          <p:cNvPicPr/>
          <p:nvPr/>
        </p:nvPicPr>
        <p:blipFill>
          <a:blip r:embed="rId1"/>
          <a:stretch/>
        </p:blipFill>
        <p:spPr>
          <a:xfrm>
            <a:off x="990720" y="0"/>
            <a:ext cx="6933960" cy="35053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42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Which chromosome shows a deletion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1998" t="26388" r="5999" b="26388"/>
          <a:stretch/>
        </p:blipFill>
        <p:spPr>
          <a:xfrm>
            <a:off x="0" y="0"/>
            <a:ext cx="9144000" cy="30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31240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process occurs during meiosi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7001" t="29170" r="27002" b="41672"/>
          <a:stretch/>
        </p:blipFill>
        <p:spPr>
          <a:xfrm>
            <a:off x="0" y="0"/>
            <a:ext cx="9144000" cy="29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42991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is why mosquito populations increase with pesticide us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rcRect l="10000" t="18060" r="25004" b="25003"/>
          <a:stretch/>
        </p:blipFill>
        <p:spPr>
          <a:xfrm>
            <a:off x="0" y="0"/>
            <a:ext cx="9144000" cy="44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rcRect l="1001" t="31946" r="13000" b="31946"/>
          <a:stretch/>
        </p:blipFill>
        <p:spPr>
          <a:xfrm>
            <a:off x="0" y="0"/>
            <a:ext cx="9144000" cy="4419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-47520" y="4419720"/>
            <a:ext cx="91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For each chemical used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</a:rPr>
              <a:t>better adapted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speci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2004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name of this technique &amp; how it’s used toda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rcRect l="14002" t="41672" r="13000" b="38063"/>
          <a:stretch/>
        </p:blipFill>
        <p:spPr>
          <a:xfrm>
            <a:off x="0" y="0"/>
            <a:ext cx="91440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creenj" descr="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lue" descr="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3" name="screenj" descr="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lue" descr="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6" name="screenj" descr="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blue" descr="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9" name="screenj" descr="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lue" descr="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2" name="screenj" descr="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lue" descr="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5" name="screenj" descr=""/>
          <p:cNvPicPr/>
          <p:nvPr/>
        </p:nvPicPr>
        <p:blipFill>
          <a:blip r:embed="rId15"/>
          <a:stretch/>
        </p:blipFill>
        <p:spPr>
          <a:xfrm>
            <a:off x="7819920" y="1981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blue" descr="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8" name="screenj" descr="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blue" descr="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1" name="screenj" descr="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blue" descr="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4" name="screenj" descr="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blue" descr="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7" name="screenj" descr="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blue" descr="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0" name="screenj" descr="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blue" descr="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3" name="screenj" descr="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blue" descr="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6" name="screenj" descr="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blue" descr="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89" name="screenj" descr="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blue" descr="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2" name="screenj" descr="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blue" descr="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5" name="screenj" descr="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blue" descr="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98" name="screenj" descr="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blue" descr="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1" name="screenj" descr="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blue" descr="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4" name="screenj" descr="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blue" descr="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07" name="screenj" descr="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blue" descr="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0" name="screenj" descr="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3290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lue" descr=""/>
          <p:cNvPicPr/>
          <p:nvPr/>
        </p:nvPicPr>
        <p:blipFill>
          <a:blip r:embed="rId61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3" name="screenj" descr=""/>
          <p:cNvPicPr/>
          <p:nvPr/>
        </p:nvPicPr>
        <p:blipFill>
          <a:blip r:embed="rId62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3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blue" descr=""/>
          <p:cNvPicPr/>
          <p:nvPr/>
        </p:nvPicPr>
        <p:blipFill>
          <a:blip r:embed="rId64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16" name="screenj" descr=""/>
          <p:cNvPicPr/>
          <p:nvPr/>
        </p:nvPicPr>
        <p:blipFill>
          <a:blip r:embed="rId65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6338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blue" descr=""/>
          <p:cNvPicPr/>
          <p:nvPr/>
        </p:nvPicPr>
        <p:blipFill>
          <a:blip r:embed="rId66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9" name="screenj" descr=""/>
          <p:cNvPicPr/>
          <p:nvPr/>
        </p:nvPicPr>
        <p:blipFill>
          <a:blip r:embed="rId67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blue" descr=""/>
          <p:cNvPicPr/>
          <p:nvPr/>
        </p:nvPicPr>
        <p:blipFill>
          <a:blip r:embed="rId69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2" name="screenj" descr=""/>
          <p:cNvPicPr/>
          <p:nvPr/>
        </p:nvPicPr>
        <p:blipFill>
          <a:blip r:embed="rId70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1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blue" descr=""/>
          <p:cNvPicPr/>
          <p:nvPr/>
        </p:nvPicPr>
        <p:blipFill>
          <a:blip r:embed="rId72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5" name="screenj" descr=""/>
          <p:cNvPicPr/>
          <p:nvPr/>
        </p:nvPicPr>
        <p:blipFill>
          <a:blip r:embed="rId73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4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blue" descr=""/>
          <p:cNvPicPr/>
          <p:nvPr/>
        </p:nvPicPr>
        <p:blipFill>
          <a:blip r:embed="rId75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8" name="screenj" descr=""/>
          <p:cNvPicPr/>
          <p:nvPr/>
        </p:nvPicPr>
        <p:blipFill>
          <a:blip r:embed="rId76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7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blue" descr=""/>
          <p:cNvPicPr/>
          <p:nvPr/>
        </p:nvPicPr>
        <p:blipFill>
          <a:blip r:embed="rId78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1" name="screenj" descr=""/>
          <p:cNvPicPr/>
          <p:nvPr/>
        </p:nvPicPr>
        <p:blipFill>
          <a:blip r:embed="rId79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0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blue" descr=""/>
          <p:cNvPicPr/>
          <p:nvPr/>
        </p:nvPicPr>
        <p:blipFill>
          <a:blip r:embed="rId81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4" name="screenj" descr=""/>
          <p:cNvPicPr/>
          <p:nvPr/>
        </p:nvPicPr>
        <p:blipFill>
          <a:blip r:embed="rId82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blue" descr=""/>
          <p:cNvPicPr/>
          <p:nvPr/>
        </p:nvPicPr>
        <p:blipFill>
          <a:blip r:embed="rId84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7" name="screenj" descr=""/>
          <p:cNvPicPr/>
          <p:nvPr/>
        </p:nvPicPr>
        <p:blipFill>
          <a:blip r:embed="rId85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blue" descr=""/>
          <p:cNvPicPr/>
          <p:nvPr/>
        </p:nvPicPr>
        <p:blipFill>
          <a:blip r:embed="rId87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0" name="screenj" descr=""/>
          <p:cNvPicPr/>
          <p:nvPr/>
        </p:nvPicPr>
        <p:blipFill>
          <a:blip r:embed="rId88"/>
          <a:stretch/>
        </p:blipFill>
        <p:spPr>
          <a:xfrm>
            <a:off x="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1" name="screenj" descr=""/>
          <p:cNvPicPr/>
          <p:nvPr/>
        </p:nvPicPr>
        <p:blipFill>
          <a:blip r:embed="rId89"/>
          <a:stretch/>
        </p:blipFill>
        <p:spPr>
          <a:xfrm>
            <a:off x="160020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2" name="screenj" descr=""/>
          <p:cNvPicPr/>
          <p:nvPr/>
        </p:nvPicPr>
        <p:blipFill>
          <a:blip r:embed="rId90"/>
          <a:stretch/>
        </p:blipFill>
        <p:spPr>
          <a:xfrm>
            <a:off x="320040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3" name="screenj" descr=""/>
          <p:cNvPicPr/>
          <p:nvPr/>
        </p:nvPicPr>
        <p:blipFill>
          <a:blip r:embed="rId91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4" name="screenj" descr=""/>
          <p:cNvPicPr/>
          <p:nvPr/>
        </p:nvPicPr>
        <p:blipFill>
          <a:blip r:embed="rId92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5" name="screenj" descr=""/>
          <p:cNvPicPr/>
          <p:nvPr/>
        </p:nvPicPr>
        <p:blipFill>
          <a:blip r:embed="rId93"/>
          <a:stretch/>
        </p:blipFill>
        <p:spPr>
          <a:xfrm>
            <a:off x="7819920" y="685800"/>
            <a:ext cx="1324080" cy="1371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3048120" y="990720"/>
            <a:ext cx="167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Univer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of Biodiver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990720"/>
            <a:ext cx="15238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Black"/>
              </a:rPr>
              <a:t>Through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Black"/>
              </a:rPr>
              <a:t>the membra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1430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Makin’ Conne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848720" y="990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Grab b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11430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icture Th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jeplogo2" descr=""/>
          <p:cNvPicPr/>
          <p:nvPr/>
        </p:nvPicPr>
        <p:blipFill>
          <a:blip r:embed="rId94"/>
          <a:stretch/>
        </p:blipFill>
        <p:spPr>
          <a:xfrm>
            <a:off x="1370160" y="0"/>
            <a:ext cx="6402240" cy="914400"/>
          </a:xfrm>
          <a:prstGeom prst="rect">
            <a:avLst/>
          </a:prstGeom>
          <a:ln w="0">
            <a:noFill/>
          </a:ln>
        </p:spPr>
      </p:pic>
      <p:pic>
        <p:nvPicPr>
          <p:cNvPr id="152" name="finaljep" descr=""/>
          <p:cNvPicPr/>
          <p:nvPr/>
        </p:nvPicPr>
        <p:blipFill>
          <a:blip r:embed="rId95"/>
          <a:stretch/>
        </p:blipFill>
        <p:spPr>
          <a:xfrm>
            <a:off x="8153280" y="228600"/>
            <a:ext cx="962280" cy="577800"/>
          </a:xfrm>
          <a:prstGeom prst="rect">
            <a:avLst/>
          </a:prstGeom>
          <a:ln w="0">
            <a:noFill/>
          </a:ln>
        </p:spPr>
      </p:pic>
      <p:pic>
        <p:nvPicPr>
          <p:cNvPr id="153" name="applause" descr="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676520" y="114300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Dem Beaks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98"/>
          <a:stretch/>
        </p:blipFill>
        <p:spPr>
          <a:xfrm>
            <a:off x="12952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51814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My word! Which diagram shows meiosi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39000" t="26388" r="11999" b="16669"/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42991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structure produces the gametes as well as a reproductive hormon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rcRect l="21999" t="27779" r="46001" b="13886"/>
          <a:stretch/>
        </p:blipFill>
        <p:spPr>
          <a:xfrm>
            <a:off x="1981080" y="0"/>
            <a:ext cx="518184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48769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identity of the gases shown he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0002" t="30555" r="13000" b="19445"/>
          <a:stretch/>
        </p:blipFill>
        <p:spPr>
          <a:xfrm>
            <a:off x="0" y="0"/>
            <a:ext cx="914400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41911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possible identity of A,B,C,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rcRect l="21002" t="30555" r="43002" b="26388"/>
          <a:stretch/>
        </p:blipFill>
        <p:spPr>
          <a:xfrm>
            <a:off x="1676520" y="0"/>
            <a:ext cx="6095880" cy="400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51055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Identify the 6 labeled parts of the reflex ar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rcRect l="13000" t="29170" r="17998" b="15278"/>
          <a:stretch/>
        </p:blipFill>
        <p:spPr>
          <a:xfrm>
            <a:off x="0" y="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71600" y="1981080"/>
            <a:ext cx="716292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odern Genetic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>
            <a:hlinkClick r:id="rId1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66680" y="4299120"/>
            <a:ext cx="8077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correct sequence of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mRNA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&amp; the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amino acids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&amp;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who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is the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most closely related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rcRect l="18999" t="26388" r="7001" b="25003"/>
          <a:stretch/>
        </p:blipFill>
        <p:spPr>
          <a:xfrm>
            <a:off x="0" y="0"/>
            <a:ext cx="9144000" cy="43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>
            <a:hlinkClick r:id="rId1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rcRect l="18999" t="26388" r="7001" b="25003"/>
          <a:stretch/>
        </p:blipFill>
        <p:spPr>
          <a:xfrm>
            <a:off x="685800" y="0"/>
            <a:ext cx="84582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6172200" y="30481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241760" y="3048120"/>
            <a:ext cx="9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172000" y="3048120"/>
            <a:ext cx="9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U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79280" y="5867280"/>
            <a:ext cx="85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393320" y="586728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90440" y="5867280"/>
            <a:ext cx="85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19520" y="2590920"/>
            <a:ext cx="1218960" cy="60948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9520" y="4800600"/>
            <a:ext cx="1218960" cy="60948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2720" y="6400800"/>
            <a:ext cx="75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 created by Saccone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Increase in pulse rat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3716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n the up and up, this is the effect of exercise on pulse rat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666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xyg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28954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Lactic Aci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22096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naerobic respiration (fermentation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1676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Evolution or natural sele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3809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Species 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rcRect l="10000" t="22227" r="25004" b="37505"/>
          <a:stretch/>
        </p:blipFill>
        <p:spPr>
          <a:xfrm>
            <a:off x="914400" y="0"/>
            <a:ext cx="7315200" cy="32623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5257800" y="2514600"/>
            <a:ext cx="68580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943600" y="1676520"/>
            <a:ext cx="685800" cy="53316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86400" y="990720"/>
            <a:ext cx="685800" cy="53316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952880" y="0"/>
            <a:ext cx="68580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457200"/>
            <a:ext cx="914400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s muscles become fatigued, blood flow increas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s muscles become tired, blood flow increas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Species A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</a:rPr>
              <a:t>went extinct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o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Species A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</a:rPr>
              <a:t>died out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o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Species A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</a:rPr>
              <a:t>could not adapt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rcRect l="11002" t="29170" r="29000" b="30555"/>
          <a:stretch/>
        </p:blipFill>
        <p:spPr>
          <a:xfrm>
            <a:off x="1752480" y="0"/>
            <a:ext cx="586764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685800"/>
            <a:ext cx="9144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Survival of the fittes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Natural sele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3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verprodu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477520" y="1143000"/>
            <a:ext cx="429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2. Competi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1981080"/>
            <a:ext cx="91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3.Survival of the fittest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(natural selection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0880" y="434340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4. Reproduction (variation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54100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5. speci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4800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Z = Chromosom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rcRect l="20001" t="22227" r="42000" b="25003"/>
          <a:stretch/>
        </p:blipFill>
        <p:spPr>
          <a:xfrm>
            <a:off x="2057400" y="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54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Hold your breath! As a student squeezes a clothespin she feels a “burning” sensation in her muscl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“burning” is due to the lack of this chemica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rcRect l="14002" t="11110" r="75006" b="19445"/>
          <a:stretch/>
        </p:blipFill>
        <p:spPr>
          <a:xfrm>
            <a:off x="0" y="0"/>
            <a:ext cx="1508040" cy="68580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1600200" y="32767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D shows chromosom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from the 2 most closel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related individual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5410080"/>
            <a:ext cx="1600200" cy="14479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rcRect l="56002" t="22227" r="14002" b="40281"/>
          <a:stretch/>
        </p:blipFill>
        <p:spPr>
          <a:xfrm>
            <a:off x="304920" y="1066680"/>
            <a:ext cx="2286000" cy="20574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rcRect l="56002" t="22227" r="14002" b="38890"/>
          <a:stretch/>
        </p:blipFill>
        <p:spPr>
          <a:xfrm>
            <a:off x="6400800" y="106668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4"/>
          <a:srcRect l="17001" t="20836" r="53002" b="69451"/>
          <a:stretch/>
        </p:blipFill>
        <p:spPr>
          <a:xfrm>
            <a:off x="304920" y="2209680"/>
            <a:ext cx="2286000" cy="5335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6400440" y="304920"/>
            <a:ext cx="246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pecies 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8600" y="228600"/>
            <a:ext cx="250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pecies 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3124080"/>
            <a:ext cx="9144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2 species  most closely related are X &amp; Z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(4 base pairs in common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990720"/>
            <a:ext cx="3200400" cy="53316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943600" y="990720"/>
            <a:ext cx="3200400" cy="53316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1371600"/>
            <a:ext cx="320040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447920"/>
            <a:ext cx="3200400" cy="53316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1752480"/>
            <a:ext cx="320040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943600" y="1828800"/>
            <a:ext cx="320040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2666880"/>
            <a:ext cx="320040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943600" y="2666880"/>
            <a:ext cx="320040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95280" y="5943600"/>
            <a:ext cx="63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G,T,C,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rcRect l="14214" t="8334" r="38216" b="18060"/>
          <a:stretch/>
        </p:blipFill>
        <p:spPr>
          <a:xfrm>
            <a:off x="1295280" y="0"/>
            <a:ext cx="6553440" cy="54864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4724280" y="5335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48320" y="1676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648320" y="29718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724280" y="43434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rcRect l="1001" t="8334" r="14002" b="23612"/>
          <a:stretch/>
        </p:blipFill>
        <p:spPr>
          <a:xfrm>
            <a:off x="0" y="0"/>
            <a:ext cx="9144000" cy="52722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0" y="5156280"/>
            <a:ext cx="9144000" cy="17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UU = Leuc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AC = histid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3351960" y="2971800"/>
            <a:ext cx="304920" cy="121932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818800" y="3886200"/>
            <a:ext cx="2819160" cy="68580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54100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nion cell or plant cel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rcRect l="47003" t="29170" r="17998" b="18060"/>
          <a:stretch/>
        </p:blipFill>
        <p:spPr>
          <a:xfrm>
            <a:off x="2403360" y="0"/>
            <a:ext cx="44229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5121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Plasmolysis, osmosis, passive transport, or dehydratio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rcRect l="47003" t="29170" r="18999" b="18060"/>
          <a:stretch/>
        </p:blipFill>
        <p:spPr>
          <a:xfrm>
            <a:off x="1066680" y="0"/>
            <a:ext cx="2590920" cy="289548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3"/>
          <a:srcRect l="8999" t="29170" r="55000" b="18060"/>
          <a:stretch/>
        </p:blipFill>
        <p:spPr>
          <a:xfrm>
            <a:off x="5181480" y="0"/>
            <a:ext cx="2743200" cy="28954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373040" y="2590920"/>
            <a:ext cx="204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Befo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40480" y="2743200"/>
            <a:ext cx="16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f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Elodea%20Salt%20and%20Fresh" descr=""/>
          <p:cNvPicPr/>
          <p:nvPr/>
        </p:nvPicPr>
        <p:blipFill>
          <a:blip r:embed="rId4"/>
          <a:srcRect l="9378" t="27780" r="11457" b="25000"/>
          <a:stretch/>
        </p:blipFill>
        <p:spPr>
          <a:xfrm>
            <a:off x="2590920" y="3505320"/>
            <a:ext cx="4038480" cy="180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0" y="0"/>
          <a:ext cx="9144000" cy="43052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5" name="Postive%20Glucose%20Benedicts" descr=""/>
          <p:cNvPicPr/>
          <p:nvPr/>
        </p:nvPicPr>
        <p:blipFill>
          <a:blip r:embed="rId4"/>
          <a:srcRect l="29164" t="37784" r="35012" b="14443"/>
          <a:stretch/>
        </p:blipFill>
        <p:spPr>
          <a:xfrm>
            <a:off x="990720" y="4038480"/>
            <a:ext cx="23619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22860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</a:rPr>
              <a:t>Starch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is too large to pass through the cell membrane,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</a:rPr>
              <a:t>glucose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is small enough to fi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Copy%20of%20dehydra%20synth" descr=""/>
          <p:cNvPicPr/>
          <p:nvPr/>
        </p:nvPicPr>
        <p:blipFill>
          <a:blip r:embed="rId2"/>
          <a:srcRect l="25002" t="34853" r="25833" b="38484"/>
          <a:stretch/>
        </p:blipFill>
        <p:spPr>
          <a:xfrm>
            <a:off x="228600" y="0"/>
            <a:ext cx="4495680" cy="2438280"/>
          </a:xfrm>
          <a:prstGeom prst="rect">
            <a:avLst/>
          </a:prstGeom>
          <a:ln w="0">
            <a:noFill/>
          </a:ln>
        </p:spPr>
      </p:pic>
      <p:pic>
        <p:nvPicPr>
          <p:cNvPr id="410" name="Copy%20of%20dehydra%20synth" descr=""/>
          <p:cNvPicPr/>
          <p:nvPr/>
        </p:nvPicPr>
        <p:blipFill>
          <a:blip r:embed="rId3"/>
          <a:srcRect l="21214" t="10607" r="53031" b="65156"/>
          <a:stretch/>
        </p:blipFill>
        <p:spPr>
          <a:xfrm>
            <a:off x="457200" y="4849920"/>
            <a:ext cx="2133720" cy="20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dialysis_tubing_MC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1148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0" y="2243160"/>
            <a:ext cx="914400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5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 = 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glucose = o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Starch = no movem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Iodine = 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95280" y="3962520"/>
            <a:ext cx="63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hromosome 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rcRect l="1998" t="26388" r="5999" b="26388"/>
          <a:stretch/>
        </p:blipFill>
        <p:spPr>
          <a:xfrm>
            <a:off x="0" y="0"/>
            <a:ext cx="9144000" cy="30132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8229600" y="0"/>
            <a:ext cx="914400" cy="30481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2193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Muscles “burn” and start to cramp as a result  of this chemical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066680" y="3657600"/>
            <a:ext cx="63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rossing Ov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2"/>
          <a:srcRect l="7001" t="29170" r="27002" b="41672"/>
          <a:stretch/>
        </p:blipFill>
        <p:spPr>
          <a:xfrm>
            <a:off x="0" y="0"/>
            <a:ext cx="9144000" cy="29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9480" y="4343400"/>
            <a:ext cx="853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Mosquito populations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</a:rPr>
              <a:t>become resistant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</a:rPr>
              <a:t>better adapted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mosquitoes surviv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rcRect l="10000" t="18060" r="25004" b="25003"/>
          <a:stretch/>
        </p:blipFill>
        <p:spPr>
          <a:xfrm>
            <a:off x="0" y="0"/>
            <a:ext cx="9144000" cy="44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2"/>
          <a:srcRect l="1001" t="31946" r="13000" b="31946"/>
          <a:stretch/>
        </p:blipFill>
        <p:spPr>
          <a:xfrm>
            <a:off x="0" y="0"/>
            <a:ext cx="9144000" cy="32004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-228600" y="3581280"/>
            <a:ext cx="91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Dieldrin = Anopheles c.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Malathion = Anopheles c. 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1219320"/>
            <a:ext cx="2440080" cy="83664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075520" y="1447920"/>
            <a:ext cx="1068480" cy="4554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075520" y="1905120"/>
            <a:ext cx="1068480" cy="4554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2971800"/>
            <a:ext cx="914400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</a:rPr>
              <a:t>Gene splicing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&amp; insulin production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</a:rPr>
              <a:t>o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</a:rPr>
              <a:t>Genetic engineering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&amp; production of hormon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rcRect l="14002" t="41672" r="13000" b="38063"/>
          <a:stretch/>
        </p:blipFill>
        <p:spPr>
          <a:xfrm>
            <a:off x="0" y="0"/>
            <a:ext cx="91440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rcRect l="39000" t="26388" r="11999" b="16669"/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0" y="5121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4 = meios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105520" y="2362320"/>
            <a:ext cx="4038480" cy="259056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rcRect l="23001" t="27779" r="46001" b="12502"/>
          <a:stretch/>
        </p:blipFill>
        <p:spPr>
          <a:xfrm>
            <a:off x="0" y="0"/>
            <a:ext cx="4267080" cy="41148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0" y="34765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 = test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It produces the gametes as well as the reproductive hormone testostero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rcRect l="40002" t="30555" r="13000" b="19445"/>
          <a:stretch/>
        </p:blipFill>
        <p:spPr>
          <a:xfrm>
            <a:off x="0" y="0"/>
            <a:ext cx="9144000" cy="431964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0" y="4876920"/>
            <a:ext cx="914400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gases shown are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</a:rPr>
              <a:t>O</a:t>
            </a:r>
            <a:r>
              <a:rPr b="0" lang="en-US" sz="5400" spc="-1" strike="noStrike" u="sng" baseline="-25000">
                <a:solidFill>
                  <a:srgbClr val="ffffff"/>
                </a:solidFill>
                <a:uFillTx/>
                <a:latin typeface="Times New Roman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&amp;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</a:rPr>
              <a:t>CO</a:t>
            </a:r>
            <a:r>
              <a:rPr b="0" lang="en-US" sz="5400" spc="-1" strike="noStrike" u="sng" baseline="-25000">
                <a:solidFill>
                  <a:srgbClr val="ffffff"/>
                </a:solidFill>
                <a:uFillTx/>
                <a:latin typeface="Times New Roman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3504600" y="4191120"/>
            <a:ext cx="2438280" cy="91440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6705000" y="457200"/>
            <a:ext cx="1523880" cy="449568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rcRect l="21002" t="30555" r="43002" b="26388"/>
          <a:stretch/>
        </p:blipFill>
        <p:spPr>
          <a:xfrm>
            <a:off x="1981080" y="0"/>
            <a:ext cx="5562720" cy="36511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0" y="34765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 = produc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B = primary consum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 = secondary consum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D = consumer (tertiary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rcRect l="13000" t="29170" r="17998" b="15278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4572000" y="205740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= Recep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28600" y="30492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 = sensory neu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59092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 = interneu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819520" y="335268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= synapse (gap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04920" y="533412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 = motor neu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495680" y="4267080"/>
            <a:ext cx="403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 = Effe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838080"/>
            <a:ext cx="914400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Burn baby bur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When muscles go through “oxygen debt” they switch to this inefficient proces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4299120"/>
            <a:ext cx="7620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relationship between muscle fatigue &amp; blood circulatio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rcRect l="17998" t="25003" r="11002" b="21827"/>
          <a:stretch/>
        </p:blipFill>
        <p:spPr>
          <a:xfrm>
            <a:off x="0" y="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5485320"/>
            <a:ext cx="696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process shown he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rcRect l="5678" t="18624" r="62785" b="45839"/>
          <a:stretch/>
        </p:blipFill>
        <p:spPr>
          <a:xfrm>
            <a:off x="762120" y="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JO SAC</dc:creator>
  <dc:description/>
  <dc:language>en-US</dc:language>
  <cp:lastModifiedBy>Joesac</cp:lastModifiedBy>
  <dcterms:modified xsi:type="dcterms:W3CDTF">2006-06-17T01:48:38Z</dcterms:modified>
  <cp:revision>96</cp:revision>
  <dc:subject/>
  <dc:title>June 20 Jeopardy</dc:title>
</cp:coreProperties>
</file>